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4415B-DC09-409E-9FBC-FA2593B08D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7075B-00B1-4E8D-80B0-81CD927122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C0209-86DF-440F-9775-3E834764D5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A3DAF-1DE0-467D-B416-2E24654AD8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52280" y="759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5877F-16F2-423C-9E03-EAC7CB3A43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D94EA-D4A5-4F42-9293-8D916EF0EF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74817-3AC6-4310-B042-D0E1A185CE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FEFAB-9BFD-42B8-AB77-543C8CEB45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2280" y="759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23B26-E175-4E0C-BA38-286F50E8CC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13BAC-945E-4C4F-AFCE-AE4C48DF04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447DB-B4B4-40B4-A565-97B391D105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D793D-6FBD-47AC-90A7-4B784473F7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740E2-A3F0-4DFF-A890-D3349D2F5E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RAFT 6  - 28 JAN 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819520" y="41148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1295280"/>
            <a:ext cx="403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1752480"/>
            <a:ext cx="518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4159080"/>
            <a:ext cx="84582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İSMAİL YANI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TEB YÖNETİM KURULU ÜYESİ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iyanik@teb.com.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95280" y="281952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imes New Roman"/>
              </a:rPr>
              <a:t>13 NİSAN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14300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RİSK YÖNETİM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3F308-C035-47CD-801F-355CFEF575B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85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Operasyonel risk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Banka içi kontrollerdeki aksamalar sonucu hata v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usulsüzlükleri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gözden k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ç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n,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anka yönetimi ve personeli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araf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aman ve ko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ullara uygu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hareket edilememesinden, bank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yönetimindeki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hatalardan, bilgi teknolojis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istemlerindeki hata ve aksama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le deprem,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yang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, sel gibi felaketlerde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ynaklanabilecek kay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ya d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arara 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ama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htimali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İş 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süreçlerinde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hata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riski: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İ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emin b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ang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n sonuna -dea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gerçekl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irilmesinde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ihai tak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uçland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a- kadar her 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ma v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üreçt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hata, noksan veya kaça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ucu ol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bilecek kay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 riskin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Bilgi sistemlerinde hata riski: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Hata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teknoloji veya yat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 seçimi , sistem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gel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irme ve uygulam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ça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a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 b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, hardware, software, network v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ayüz uygulama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 baş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t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ynaklanabilecek zar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İnsandan kaynaklanan riskler: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oland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, personel suistimali, personel hat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yetkisiz faaliyet, onay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em ve personel yetersizl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 veya kilit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ersonelin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yb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n do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cak zarar ihtimali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Do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ğ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al afet ve 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dış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faktörlerden kaynaklanan riskler</a:t>
            </a:r>
            <a:r>
              <a:rPr b="0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eprem, yang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,sel gibi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o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fetler ile ilet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m, ul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ım ve enerji altyap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 y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nan sorunlar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edeniyle zarar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u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ama ihtimali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1175B-FEDC-4D76-8421-7208B52A45C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28600"/>
            <a:ext cx="914400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Düzenlemelere uyulmama riski</a:t>
            </a:r>
            <a:r>
              <a:rPr b="0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Mevzuat hükümlerine ve kanunlar ile yasal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üzenleme v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y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ükümlülüklere, Bankam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 iç mevzuat hükümlerine veya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uluslarar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kabul görmü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urallara uyulma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sonucu ortay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ç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bilecek resmi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erciler taraf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n verilen faiz,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ödeme ceza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, iş koluna getirilen yasak veya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lamalar ile zorunlu düzeltme 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emlerinin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aliyeti nedeni ile 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yb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Mevzuata ilişkin yetersiz bilgi riski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Banka tarafından yetersiz ya da yan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yasal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ilgi v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elgeye dayanarak yapılabilecek 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emler neticesinde hak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eklenenden dü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ük,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yükümlülüklerin ise beklenenin üzerind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gerçekl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htimali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Vergi riski :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Vergi mevzuat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a ay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 veya Bankam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 bilonço pozisyonundan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o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bilecek resmi mercilerce talep edilebilecek ek vergi ve vergi cez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htimali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İtibar riski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Faaliyetlerindeki b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lar ya da mevcut yasal düzenlemeler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uygu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avr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ma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neticesinde bankaya duyulan güvenin azal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veya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tib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zedelenmes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le ortaya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ç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bilecek kayb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Yasal risk ve yükümlülük riski: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ankam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ca taraf olunan sözl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elerde eksik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yada hata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yetersiz hükümler ve uygulama usulleri bulun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nedeniyle k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arafa yasal olara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yapt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da bulunulama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veya üçüncü k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lerin Bankam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a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olan taleplerinde yeterli yasal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ayan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bulunamaması nedeniyle zarara uğrama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htimali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3EA43-2806-4A29-9E2A-CF7FC26779E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28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Güvenlik riski :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zaen veya k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bir eylem sonucu Bankam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sahip olduğu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ilginin v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v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r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gizlilik,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ütünlük ve do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uluk veya kull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l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 v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r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lebilirl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nin yitirilmesin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psayan bilgi sistemleri ve fizikse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güvenlik riski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4E154-BBEE-4192-A308-B9CAFB2405D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600200" y="2209680"/>
            <a:ext cx="557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27160" y="1793880"/>
            <a:ext cx="588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33720" y="2270160"/>
            <a:ext cx="5105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3300"/>
                </a:solidFill>
                <a:latin typeface="Times New Roman"/>
              </a:rPr>
              <a:t>RİSK YÖNETİMİ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3300"/>
                </a:solidFill>
                <a:latin typeface="Times New Roman"/>
              </a:rPr>
              <a:t>TEMEL İLKEL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0E940-F1F5-4CAE-A38D-9E55E01F600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819520" y="41148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1752480"/>
            <a:ext cx="518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19320" y="1709640"/>
            <a:ext cx="777240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 u="sng">
                <a:solidFill>
                  <a:srgbClr val="ffffff"/>
                </a:solidFill>
                <a:uFillTx/>
                <a:latin typeface="Arial"/>
              </a:rPr>
              <a:t>KURUMU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Stratejis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Politikalar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Yönetim Kültürü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Tüm çalışanlarca bilinmeli ve benimsenmelidi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81080" y="0"/>
            <a:ext cx="510552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ÖNCELİK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D121F-4552-48BA-8B0C-240AF048867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819520" y="41148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1295280"/>
            <a:ext cx="403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3880" y="1752480"/>
            <a:ext cx="518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1701720"/>
            <a:ext cx="7772400" cy="33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ffffff"/>
                </a:solidFill>
                <a:latin typeface="Arial"/>
              </a:rPr>
              <a:t>Yönetimin 1’nci sorumluluğu kurumun riskini yönetecek kişileri eğitmek, geliştirmek, yönlendirmek ve desteklemekti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0"/>
            <a:ext cx="510552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ÖNCELİK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9E131-C8C4-4A30-938F-91DA4026C49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79246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Faaliyetlerin ayrılığı ilke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752480" y="3276720"/>
            <a:ext cx="4819680" cy="2476080"/>
            <a:chOff x="1752480" y="3276720"/>
            <a:chExt cx="4819680" cy="2476080"/>
          </a:xfrm>
        </p:grpSpPr>
        <p:sp>
          <p:nvSpPr>
            <p:cNvPr id="139" name=""/>
            <p:cNvSpPr/>
            <p:nvPr/>
          </p:nvSpPr>
          <p:spPr>
            <a:xfrm>
              <a:off x="2912400" y="3782160"/>
              <a:ext cx="2483640" cy="151776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752480" y="5247360"/>
              <a:ext cx="1427400" cy="5054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448440" y="3276720"/>
              <a:ext cx="1427400" cy="50544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44760" y="5247360"/>
              <a:ext cx="1427400" cy="50544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733920" y="32767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3300"/>
                </a:solidFill>
                <a:latin typeface="Times New Roman"/>
              </a:rPr>
              <a:t>Pazarlama / Haz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81080" y="533412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Operasy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410080" y="53341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3300"/>
                </a:solidFill>
                <a:latin typeface="Times New Roman"/>
              </a:rPr>
              <a:t>K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62320" y="0"/>
            <a:ext cx="434340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RİSK YÖNETİM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AAFD4-A697-4E36-A24A-E0F9F3AB72A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914040" y="24382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Faaliyetlerin ayrılığı ilke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3733920"/>
            <a:ext cx="1904760" cy="137160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Fiyatl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52880" y="3581280"/>
            <a:ext cx="2438640" cy="15242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Değerl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038480" y="449568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0"/>
            <a:ext cx="434340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RİSK YÖNETİM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E6F88-3068-4F33-8A2C-805BDEB2EF1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914040" y="1523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Faaliyetlerin ayrılığı ilke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76520" y="2666880"/>
            <a:ext cx="1904760" cy="137160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Ticari Portfö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952880" y="2514600"/>
            <a:ext cx="2438640" cy="15238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Yatırı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Portföy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038480" y="342900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4419360" y="3124080"/>
            <a:ext cx="15228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434340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Times New Roman"/>
              </a:rPr>
              <a:t>Piyasa fiyatına göre değerleme  (MTM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362320" y="152280"/>
            <a:ext cx="434340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RİSK YÖNETİMİ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860B4-E78D-46FB-AA72-58AC1A6BD2C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819520" y="41148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1295280"/>
            <a:ext cx="403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23880" y="1752480"/>
            <a:ext cx="518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1793880"/>
            <a:ext cx="7772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tr-TR" sz="3600" spc="-1" strike="noStrike">
                <a:solidFill>
                  <a:srgbClr val="ffffff"/>
                </a:solidFill>
                <a:latin typeface="Times New Roman"/>
              </a:rPr>
              <a:t>Müşteri segmentle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tr-TR" sz="3600" spc="-1" strike="noStrike">
                <a:solidFill>
                  <a:srgbClr val="ffffff"/>
                </a:solidFill>
                <a:latin typeface="Times New Roman"/>
              </a:rPr>
              <a:t>Sektörl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tr-TR" sz="3600" spc="-1" strike="noStrike">
                <a:solidFill>
                  <a:srgbClr val="ffffff"/>
                </a:solidFill>
                <a:latin typeface="Times New Roman"/>
              </a:rPr>
              <a:t>Bölgel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228600"/>
            <a:ext cx="4343400" cy="13716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3049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RİSKİN </a:t>
            </a:r>
            <a:br>
              <a:rPr sz="4400"/>
            </a:b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DAĞITILMAS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2A649-7F20-46A5-B261-290C83CC580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819520" y="41148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1295280"/>
            <a:ext cx="403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3880" y="1752480"/>
            <a:ext cx="518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362320"/>
            <a:ext cx="87631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ff"/>
                </a:solidFill>
                <a:latin typeface="Arial"/>
              </a:rPr>
              <a:t>BANKAMIZIN HEDEF ve AMAÇLARINA ULAŞMASINI ETKİLEYEN HER TÜRLÜ UNSU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3880" y="457200"/>
            <a:ext cx="586764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81080" y="4572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Rİ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25308-9424-426C-8EF6-5FF7D936B46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819520" y="41148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05120" y="2130480"/>
            <a:ext cx="77724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Kredi / Karşı taraf riskle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Ülke / Bölge / Sektör limitle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Gap Limitleri (Faiz riski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Likidite rasyo limitle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362320" y="304920"/>
            <a:ext cx="4343400" cy="129528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200" spc="-1" strike="noStrike">
                <a:solidFill>
                  <a:srgbClr val="ffffff"/>
                </a:solidFill>
                <a:latin typeface="Arial"/>
              </a:rPr>
              <a:t>RİSKİN 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200" spc="-1" strike="noStrike">
                <a:solidFill>
                  <a:srgbClr val="ffffff"/>
                </a:solidFill>
                <a:latin typeface="Arial"/>
              </a:rPr>
              <a:t>LİMİTLENMESİ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2779D-14EE-4BB6-8929-D679B2338302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447920" y="304920"/>
            <a:ext cx="609588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19520" y="41148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295280"/>
            <a:ext cx="403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3880" y="1752480"/>
            <a:ext cx="518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76520" y="609480"/>
            <a:ext cx="7772400" cy="48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Tarif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Hedef müşte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Risk / kontrol noktalar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Risk / Geti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Operasyon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Muhasebes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48440" y="433440"/>
            <a:ext cx="580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ÜRÜN EL KİTAPLAR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95ED3-B5F9-461E-BB68-21911FEAC8F2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819520" y="41148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66680" y="1295280"/>
            <a:ext cx="403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23880" y="1752480"/>
            <a:ext cx="518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4920" y="2046240"/>
            <a:ext cx="8534160" cy="40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tr-TR" sz="3400" spc="-1" strike="noStrike">
                <a:solidFill>
                  <a:srgbClr val="ffffff"/>
                </a:solidFill>
                <a:latin typeface="Times New Roman"/>
              </a:rPr>
              <a:t>DÜRÜSTLÜK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tr-TR" sz="3400" spc="-1" strike="noStrike">
                <a:solidFill>
                  <a:srgbClr val="ffffff"/>
                </a:solidFill>
                <a:latin typeface="Times New Roman"/>
              </a:rPr>
              <a:t>Aklımızı kullanarak hareket etmek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tr-TR" sz="3400" spc="-1" strike="noStrike">
                <a:solidFill>
                  <a:srgbClr val="ffffff"/>
                </a:solidFill>
                <a:latin typeface="Times New Roman"/>
              </a:rPr>
              <a:t>Risk alanların tecrübe ile gelişen yeteneğ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23880" y="457200"/>
            <a:ext cx="586764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81080" y="4572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ÜÇ ANA UNSU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CB9F8-CAA1-4AA1-8DA8-1BE8D21FD52A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362320" y="152280"/>
            <a:ext cx="4343400" cy="16002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510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TEKNOLOJİK </a:t>
            </a:r>
            <a:br>
              <a:rPr sz="4400"/>
            </a:b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GELİŞMELER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90720" y="205704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Telefon             Teleks              Reu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Bilgisayar teknolojilerinin gelişmesi sonucu hesaplama          ve bilgiye ulaşma maliyetlerinin ucuzlamas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1978            $ 500        MI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2000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       ---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666880" y="2209680"/>
            <a:ext cx="457200" cy="152640"/>
          </a:xfrm>
          <a:prstGeom prst="rightArrow">
            <a:avLst>
              <a:gd name="adj1" fmla="val 50000"/>
              <a:gd name="adj2" fmla="val 748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2209680"/>
            <a:ext cx="457200" cy="152640"/>
          </a:xfrm>
          <a:prstGeom prst="rightArrow">
            <a:avLst>
              <a:gd name="adj1" fmla="val 50000"/>
              <a:gd name="adj2" fmla="val 748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9A789-50B7-41C2-AF98-ECF5388F41A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762120" y="24382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1984  Reuters  Green Monitor   $ 500/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Daha fazla bilgi                          $  50/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257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2572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362320" y="228600"/>
            <a:ext cx="4343400" cy="13716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05120" y="304920"/>
            <a:ext cx="510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TEKNOLOJİK </a:t>
            </a:r>
            <a:br>
              <a:rPr sz="4400"/>
            </a:b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GELİŞME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D15B0-6F4B-4955-B107-F463BCA0C93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066680" y="19047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Internet/Intranet’in yayılmas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Riski oluşturan bilgilerin konsolidasyon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tr-TR" sz="2400" spc="-1" strike="noStrike">
                <a:solidFill>
                  <a:srgbClr val="ffffff"/>
                </a:solidFill>
                <a:latin typeface="Arial"/>
              </a:rPr>
              <a:t>İşlem datas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tr-TR" sz="2400" spc="-1" strike="noStrike">
                <a:solidFill>
                  <a:srgbClr val="ffffff"/>
                </a:solidFill>
                <a:latin typeface="Arial"/>
              </a:rPr>
              <a:t>Kur/faiz datas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tr-TR" sz="2400" spc="-1" strike="noStrike">
                <a:solidFill>
                  <a:srgbClr val="ffffff"/>
                </a:solidFill>
                <a:latin typeface="Arial"/>
              </a:rPr>
              <a:t>Diğer piyasa verile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tr-TR" sz="2400" spc="-1" strike="noStrike">
                <a:solidFill>
                  <a:srgbClr val="ffffff"/>
                </a:solidFill>
                <a:latin typeface="Arial"/>
              </a:rPr>
              <a:t>Müşteri bilgile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362320" y="228600"/>
            <a:ext cx="4343400" cy="129528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05120" y="304920"/>
            <a:ext cx="510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TEKNOLOJİK </a:t>
            </a:r>
            <a:br>
              <a:rPr sz="4400"/>
            </a:b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GELİŞME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FFA2C-F465-4B6F-9B2B-6BF3DBC2F7F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762120" y="25909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Aylık             Haftalık            Günlük           Real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676520" y="3124080"/>
            <a:ext cx="838080" cy="304920"/>
          </a:xfrm>
          <a:prstGeom prst="rightArrow">
            <a:avLst>
              <a:gd name="adj1" fmla="val 50000"/>
              <a:gd name="adj2" fmla="val 6871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33920" y="3124080"/>
            <a:ext cx="838080" cy="304920"/>
          </a:xfrm>
          <a:prstGeom prst="rightArrow">
            <a:avLst>
              <a:gd name="adj1" fmla="val 50000"/>
              <a:gd name="adj2" fmla="val 6871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15000" y="3124080"/>
            <a:ext cx="838080" cy="304920"/>
          </a:xfrm>
          <a:prstGeom prst="rightArrow">
            <a:avLst>
              <a:gd name="adj1" fmla="val 50000"/>
              <a:gd name="adj2" fmla="val 6871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362320" y="304920"/>
            <a:ext cx="4343400" cy="129528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905120" y="304920"/>
            <a:ext cx="510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TEKNOLOJİK </a:t>
            </a:r>
            <a:br>
              <a:rPr sz="4400"/>
            </a:b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GELİŞME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9DE6E-DF55-46FB-A651-DB14D20B7AB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066680" y="22093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Para Piyasalar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Hazine bonosunun ilk defa repolanması (198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Banka bilançolarında yoğunlaş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ff9900"/>
                </a:solidFill>
                <a:latin typeface="Arial"/>
              </a:rPr>
              <a:t>Hazine Bonos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ff9900"/>
                </a:solidFill>
                <a:latin typeface="Arial"/>
              </a:rPr>
              <a:t>Eurob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Yabancı piyasaların ilgisi/etki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362320" y="304920"/>
            <a:ext cx="4343400" cy="121896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05120" y="304920"/>
            <a:ext cx="510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TÜRKİY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PİYASAS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94429-6198-45DC-92DE-793E22735B3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09480" y="21333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Capital Accord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Ocak 199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Amendment to the Capital Accord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Nisan 199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Bankaların İç Denetim ve Risk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Yönetimi Sistemleri Hakkında Yönetmeli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Ocak 20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Bankaların Sermaye Yeterliliğinin Ölçülmes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ve Değerlendirilmesine İlişkin Yönetmeli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Ocak 2002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057400" y="152280"/>
            <a:ext cx="4800600" cy="13716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05120" y="304920"/>
            <a:ext cx="510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KANUN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DÜZENLEME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12428-D53C-405D-BD13-385FC8B29CC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819520" y="41148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066680" y="1295280"/>
            <a:ext cx="403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23880" y="1752480"/>
            <a:ext cx="518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1432080"/>
            <a:ext cx="8610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BDDK tarafından yayımlanan 8 Şubat 2001 tarihli “Bankaların İç Denetim ve Risk  Yönetimi Sistemleri Hakkındaki Yönetmelik Bankalarda aşağıda belirtilen alanlarda değişiklik yaratmışt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9680" y="3476520"/>
            <a:ext cx="4953240" cy="18288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BANKA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27160" y="3338640"/>
            <a:ext cx="207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Yönetim Kuruluna İlave Sorumlulu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0880" y="4267080"/>
            <a:ext cx="2073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Kuvvetler Ayrılığı İlkesinin Daha Etkin Uygulanmas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447920" y="5334120"/>
            <a:ext cx="207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Sermaye Yeterliliği Hesaplamas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5410080"/>
            <a:ext cx="207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Piyasa ve Kredi Riski Yöneti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36840" y="2895480"/>
            <a:ext cx="207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Organizasyon Yapısında Değişikli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546880" y="2971800"/>
            <a:ext cx="207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Daha Etkin İç Kontrol Siste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010280" y="3733920"/>
            <a:ext cx="1752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İlave Raporlama ve Bildirim Yükümlülüğ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553080" y="49338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Banka Risklilik Düzeyinin Belirlenmesi, Bankanın Temel İşlevsel Faaliyet Alanlarının Özel Kontrol Ve İncelemele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0"/>
            <a:ext cx="586728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057400" y="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BDDK TALEPLER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674F9-F3AF-4E73-B79C-C54B2D9112FF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2743200"/>
            <a:ext cx="1904760" cy="18288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Müşteril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veri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hizm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81280" y="2743200"/>
            <a:ext cx="1981440" cy="1828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Yöneti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8120" y="327672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15000" y="327672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48520" y="2743200"/>
            <a:ext cx="2133360" cy="175248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Başarılı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Bankacılı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3880" y="457200"/>
            <a:ext cx="586764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4572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RİSK YÖNETİM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6830D-FB8B-4281-BACC-99DD498DAF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Risk politikalarının oluşturulmas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Faaliyetlerin risklilik düzeyinin değerlendirilmes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Acil ve beklenmedik durum planı uygulamas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Piyasa riskinini ölçülmesi (Standart metod yada VaR) (1.1.200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Banka iştiraklerinin risk yönetiminde dikkate alınması (1.7.200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QIS-TR  (28.02.200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905120" y="228600"/>
            <a:ext cx="586728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62320" y="228600"/>
            <a:ext cx="510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BDDK TALEPLER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DB938-1437-4F52-A999-F1A1A04C85E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685800" y="2666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Hazine  pozisyonlarından (trading book) bir günlük elde tutma süresi ve belli bir güven aralığında - %99 – olasılıkla kaybedilecek en yüksek tutar (TL veya USD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209680" y="457200"/>
            <a:ext cx="434340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752480" y="4572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V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1F442-85D6-4A38-94F4-BEEB1306C7C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13716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Risk Yönetim Arac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Banka Yönetimini, Resmi Otoriteyi ve Piyasayı Bilgilendir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Sermaye Yeterliliği Hesaplamas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Performans Ölçü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Limit Tahsis / İzle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209680" y="457200"/>
            <a:ext cx="434340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752480" y="4572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V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F5691-2875-478B-9F5C-25A24616482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1143000" y="205704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Varsayımsal veya gerçekleşmiş olayla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     – 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olağanüstü fiyat değişiklikle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Banka portföyüne uygun senaryo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Deprem - Kasım - Şubat - Irak krizle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Olay ve parametre seçi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Öngörü ve tecrüb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09680" y="304920"/>
            <a:ext cx="4876920" cy="13716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09680" y="304920"/>
            <a:ext cx="5029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Stres Testi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Senaryo Analiz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04062-81E0-4DAA-A4B2-AC1D0EB3D65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1447560" y="25146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Faiz oranlarına paralel-non paralel şok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Kur şoklar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Durasyon – gap analizle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09680" y="228600"/>
            <a:ext cx="4343400" cy="129528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09680" y="304920"/>
            <a:ext cx="434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DUYARLILIK  DURASY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609B0-E658-4EFB-80E2-416419D9CD6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380880" y="21333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Risk iştah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Risk politikalar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cc66"/>
                </a:solidFill>
                <a:latin typeface="Arial"/>
              </a:rPr>
              <a:t>İhtiyaçlar önceden tespit edilmel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Kritik nokta/seviy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Kritik ürün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Bilanço hassasiye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09680" y="380880"/>
            <a:ext cx="4343400" cy="129564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752480" y="4572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TAVSİYE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ÖNCELİK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EFC2D-8CA8-4D4E-BAB2-93005080301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cc66"/>
                </a:solidFill>
                <a:latin typeface="Arial"/>
              </a:rPr>
              <a:t>İnsana yatırım önceliğ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7161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600" spc="-1" strike="noStrike">
                <a:solidFill>
                  <a:srgbClr val="ffffff"/>
                </a:solidFill>
                <a:latin typeface="Arial"/>
              </a:rPr>
              <a:t>Bilinçlendir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17161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600" spc="-1" strike="noStrike">
                <a:solidFill>
                  <a:srgbClr val="ffffff"/>
                </a:solidFill>
                <a:latin typeface="Arial"/>
              </a:rPr>
              <a:t>Eğiti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209680" y="380880"/>
            <a:ext cx="4343400" cy="121932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52480" y="4572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TAVSİYE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ÖNCELİK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55685-29B1-4564-B97E-C838158EE3F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1218960" y="2286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cc66"/>
                </a:solidFill>
                <a:latin typeface="Arial"/>
              </a:rPr>
              <a:t>Bilgi İşlem Altyapıs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Detaylı Anali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Risk Yönetimi          Hazırlık          Data toplam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581280" y="4191120"/>
            <a:ext cx="533520" cy="152280"/>
          </a:xfrm>
          <a:prstGeom prst="rightArrow">
            <a:avLst>
              <a:gd name="adj1" fmla="val 50000"/>
              <a:gd name="adj2" fmla="val 8758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09680" y="380880"/>
            <a:ext cx="4343400" cy="129564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752480" y="4572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TAVSİYE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ÖNCELİK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34120" y="4191120"/>
            <a:ext cx="533160" cy="152280"/>
          </a:xfrm>
          <a:prstGeom prst="rightArrow">
            <a:avLst>
              <a:gd name="adj1" fmla="val 50000"/>
              <a:gd name="adj2" fmla="val 8753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03A2B-1AA7-409F-A9BA-42B21ACBF60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990720" y="25146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Lokal destek sağlanmal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Türk piyasalarının özelliklerine (Volatilite, veri eksikliği v.b.) uygun sentez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Know-how kurum içinde içselleştirilme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09680" y="380880"/>
            <a:ext cx="4343400" cy="129564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52480" y="4572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TAVSİYE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ÖNCELİK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C0A77-BCE2-43B3-9284-F8A2177219F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1447920" y="2286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Arial"/>
              </a:rPr>
              <a:t>Risk Yöneticisinin rolü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İcraya karışacak mı 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Sadece karar desteğ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Yurtdışı örnekl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BDD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209680" y="380880"/>
            <a:ext cx="4343400" cy="13716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752480" y="4572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TAVSİYE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ÖNCELİK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1E55D-738C-4755-B19A-C8941806609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YK, kurumlarında etkin bir Risk Yönetimi olduğundan emin olmak is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9900"/>
                </a:solidFill>
                <a:latin typeface="Arial"/>
              </a:rPr>
              <a:t>NEDEN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Kurumlar değişir (kişiler ve yapı olarak) bu değişim geleneksel kontrollerin değişmesine genellikle atlanmasına sebep olu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Yeni teknoloji beraberinde yeni riskler getiri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İşlemler giderek daha karmaşık yapılar içerir     (türev ürünler, structur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Kasıtlı hata veya ihmal bir çok kurum için hala problem teşkil ediy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Stratejik hata maliyetleri arttırı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Kontrol aksaklıkları kurumu önemli derecede etki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380880"/>
            <a:ext cx="640080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52480" y="380880"/>
            <a:ext cx="6019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YK – RY BAKIŞ AÇIS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43A57-D2F5-4B7A-AE43-2465C2FDEB6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11430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Risk Yönetiminin önemi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9900"/>
                </a:solidFill>
                <a:latin typeface="Arial"/>
              </a:rPr>
              <a:t>Üst Yönetimin bilgilendirilmesi/bilinçlendirilmes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Standart Meto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9900"/>
                </a:solidFill>
                <a:latin typeface="Arial"/>
              </a:rPr>
              <a:t>Yeterli mi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9900"/>
                </a:solidFill>
                <a:latin typeface="Arial"/>
              </a:rPr>
              <a:t>Doğru data (Garbage in / Garbage Ou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Doğru çözüm her zaman pahalı değildi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Black Box çözüm yokt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Bu bir yaşam biçimidi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90920" y="609480"/>
            <a:ext cx="434340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209680" y="60948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SONU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47200" y="5867280"/>
            <a:ext cx="291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SEL II YAKI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AEDA7-101F-44A8-89CA-A6F95D313A7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218960" y="28195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3300"/>
                </a:solidFill>
                <a:latin typeface="Arial"/>
              </a:rPr>
              <a:t>1994 Orange County 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Structured Securities 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$1.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3300"/>
                </a:solidFill>
                <a:latin typeface="Arial"/>
              </a:rPr>
              <a:t>1995 Barings</a:t>
            </a:r>
            <a:r>
              <a:rPr b="0" lang="tr-TR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Nikkei  Futures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$ 1.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3300"/>
                </a:solidFill>
                <a:latin typeface="Arial"/>
              </a:rPr>
              <a:t>1996 Sumitomo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          Yetkisiz Pozisyon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$ 2.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3300"/>
                </a:solidFill>
                <a:latin typeface="Arial"/>
              </a:rPr>
              <a:t>2002 Allied Irish </a:t>
            </a:r>
            <a:r>
              <a:rPr b="0" lang="tr-TR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 Currency Options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$ 0.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457200"/>
            <a:ext cx="518148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28800" y="380880"/>
            <a:ext cx="5410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BÜYÜK KAYIPL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C8B00-2D5E-4478-B9A3-21120607944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600200" y="2209680"/>
            <a:ext cx="557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27160" y="1793880"/>
            <a:ext cx="588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91120" y="2511360"/>
            <a:ext cx="6180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3300"/>
                </a:solidFill>
                <a:latin typeface="Arial"/>
              </a:rPr>
              <a:t>RİSK YÖNETİMİ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3300"/>
                </a:solidFill>
                <a:latin typeface="Arial"/>
              </a:rPr>
              <a:t>TEMEL RİSK TANIMLAR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D4B51-D86C-41A8-B941-0AE079B938F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60948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Strateji riski</a:t>
            </a:r>
            <a:r>
              <a:rPr b="0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Seçilen uygulama ve kararlara b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olarak, 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olu v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tri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genelinde meydana gelen dönemsel d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mler veya teknoloji d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mle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eticesind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ortaya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ç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bilece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arara 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ama ihtimalin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Kredi riski</a:t>
            </a:r>
            <a:r>
              <a:rPr b="0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: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anka mü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erisinin yap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an sözl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e gereklerine uymayarak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yükümlülü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ünü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men veya tamamen zam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 yerine getirememesinden dolay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ank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k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tığ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durumu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Sistemik risk: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Finansal sistemdeki kurul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ardan kaynaklanabilece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ödem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istemlerine il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in ol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bilecek aksak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lar v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bu aksaklıkların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finansal sistemi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stikr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üzerindeki etkilerinden kaynaklanan zarara 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ama ihtimali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Ülke riski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Uluslarar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kredi 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emlerinde, krediyi alan k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 ya da kurul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un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faaliyette bulunduğ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ülkenin ekonomik, sosyal v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olitik yap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nedeniyl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yükümlülü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ün 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men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veya tamame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am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 yerine getirilememesi ihtimali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74D42-54D5-435B-9011-DFF57B0A966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533520"/>
            <a:ext cx="914400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İş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lemin sonuçland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ı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r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ı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lamamas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ı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riski</a:t>
            </a:r>
            <a:r>
              <a:rPr b="0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: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ank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k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taraftan, umulan süred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em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onu finansal arac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yada fonu (nakdi) teslim alama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, eld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dememesi durumunu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İş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lemin sonuçland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ı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r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ı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lma öncesi olu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ş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an risk: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İş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mi yapan taraflardan birinin,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emi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üresi 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ç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nde, sözl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edeki yükümlülü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ünü yerine getiremeyec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nin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nl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d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ğı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urumu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Transfer riski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Krediyi alan kişi ya da kurul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un bulund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u ülkenin ekonomi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urum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ve mevzuat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nedeniyle döviz borcunun ay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türde veya konvertib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r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ir döviz ile ger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ödenememe ihtimali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Faiz oran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ı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riski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Faiz oranlarındaki hareketler nedeniyle bank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pozisyon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urumun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olarak maruz kalabilec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 zarar ihtimali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16B05-CA28-4D4F-B610-E2EC3C66C3E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55548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Likidite riski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Bank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nakit a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ş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ki dengesizlik sonucunda nakit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çıkı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tam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olara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ve zam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 k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ayacak düzeyde ve nitelikte nakit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m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vcudun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veya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akit gir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ne sahip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ulunma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Piyasaya ili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ş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kin likidite riski: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ank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piyasaya gerekt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 gibi girememesi, baz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ünlerdeki 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piyasa yap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ve piyasalard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ol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ngeller ve bölünmeler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edeniyl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ozisyon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uygun bir fiyatta, yeterli tutarlarda ve h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olarak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patama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veya pozisyonlardan çıkama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durumunda ortaya ç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n zarar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htimali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Fonlamaya ili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ş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kin likidite riski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Nakit gir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ve ç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ki düzensizlikler v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vadey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nakit a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uyumsuzluk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nedeniyl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fonlama yükümlülü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ünü makul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ir maliyet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le potansiyel olarak yerine getirememe ihtimali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Piyasa riski</a:t>
            </a:r>
            <a:r>
              <a:rPr b="0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Bilanço içi ve bilanço d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ş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hesaplarda bankalarca tutulan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ozisyonlarda finansal piyasadak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algalanmalardan kaynaklan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faiz, kur ve hiss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enedi fiyat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elerine b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olarak ortaya ç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n faiz or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iski, hiss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ened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ozisyon riski v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ur riski gibi riskler nedeniyle zarar etm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htimali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0AAC7-E769-48D3-A25C-A4174C965D0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9T19:07:35Z</dcterms:created>
  <dc:creator>Robert Fleming &amp; Co Limited</dc:creator>
  <dc:description/>
  <dc:language>en-US</dc:language>
  <cp:lastModifiedBy>krandaa</cp:lastModifiedBy>
  <cp:lastPrinted>2000-01-26T21:41:00Z</cp:lastPrinted>
  <dcterms:modified xsi:type="dcterms:W3CDTF">2004-04-26T14:07:19Z</dcterms:modified>
  <cp:revision>438</cp:revision>
  <dc:subject/>
  <dc:title>No Slide Title</dc:title>
</cp:coreProperties>
</file>